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82A-BA55-4987-9992-76FFF3DB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8DF-6BF8-4A8A-9BB6-964E679A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D89-9A5A-4DAD-99A1-7B2EBC9B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9D3-9709-4602-80E5-4BEF0E5B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D4A-130D-4E7F-97F0-61CD3D5A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A1A-2CCA-4E70-9398-739DF307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EAA6-9155-438B-883F-08DE5238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DC4-79B7-4ECB-83D1-3F0A5588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6DB-C765-4309-B207-A82BA510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96A-D0E3-4B85-869D-151F4E24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539F-8F0F-4E98-84F7-F1740033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543-13C2-478F-9F70-88307A9B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0A9C-132D-4D74-AA31-18206235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60" t="5969" r="11661" b="3398"/>
          <a:stretch/>
        </p:blipFill>
        <p:spPr>
          <a:xfrm>
            <a:off x="-7920" y="475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432" t="5956" r="9174" b="3522"/>
          <a:stretch/>
        </p:blipFill>
        <p:spPr>
          <a:xfrm>
            <a:off x="0" y="47520"/>
            <a:ext cx="914400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4:17:26Z</dcterms:created>
  <dc:creator>Luis</dc:creator>
  <dc:description/>
  <dc:language>en-US</dc:language>
  <cp:lastModifiedBy>Luis</cp:lastModifiedBy>
  <dcterms:modified xsi:type="dcterms:W3CDTF">2008-04-28T14:22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