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B73E-8D60-4D7A-8202-BAB655665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F258-1F53-4380-BB0B-2DA8D6C5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0709-9F9B-4790-B934-D52E9EB75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0639-235A-4D9B-AA76-18E73D424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9E62-FB34-4E41-B711-DDC39447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368C-D296-4C91-8691-836E5E85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0045-D547-4E44-8E55-64FF3EF9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6B5E-9D74-49BA-920E-63934B61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579D-B919-4BA6-87D5-2A30FB2B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CCAA-6D79-43EA-8825-9DA9F485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E52A-2E88-496C-B49F-338853F3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4921-BCC2-4351-A0E4-9A7C4BB6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4162-D1DB-4800-961A-0D6B90037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660" t="5969" r="11661" b="3398"/>
          <a:stretch/>
        </p:blipFill>
        <p:spPr>
          <a:xfrm>
            <a:off x="-7920" y="47520"/>
            <a:ext cx="9144000" cy="66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2432" t="5956" r="9174" b="3522"/>
          <a:stretch/>
        </p:blipFill>
        <p:spPr>
          <a:xfrm>
            <a:off x="0" y="47520"/>
            <a:ext cx="914400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4:17:26Z</dcterms:created>
  <dc:creator>Luis</dc:creator>
  <dc:description/>
  <dc:language>en-US</dc:language>
  <cp:lastModifiedBy>Luis</cp:lastModifiedBy>
  <dcterms:modified xsi:type="dcterms:W3CDTF">2008-04-28T14:22:0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