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5FB-5A4D-4CF5-950E-5B692C5E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79D-1496-4049-9755-8A4E3CE4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3DF-890E-4602-8264-6E7EC509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EA8-AF99-4266-9477-B833C199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B62-44B4-4C91-95BD-B780F753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1E0-B319-4A9D-8B34-D6BEA9AF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A24-0709-4640-A018-715BC471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A34-3434-48E1-919C-D64F3AE2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662-A862-40EF-9FC7-F34A7BB8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B23-0724-4CF1-B2A6-8DD48E5B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24E-8A93-4DFB-BB78-5664503B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99B7-E29E-4333-A7D2-CDFF0469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A04F-63A8-48DF-B843-8B3FD1BDA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660" t="5969" r="11661" b="3398"/>
          <a:stretch/>
        </p:blipFill>
        <p:spPr>
          <a:xfrm>
            <a:off x="-7920" y="47520"/>
            <a:ext cx="914400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432" t="5956" r="9174" b="3522"/>
          <a:stretch/>
        </p:blipFill>
        <p:spPr>
          <a:xfrm>
            <a:off x="0" y="4752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4:17:26Z</dcterms:created>
  <dc:creator>Luis</dc:creator>
  <dc:description/>
  <dc:language>en-US</dc:language>
  <cp:lastModifiedBy>Luis</cp:lastModifiedBy>
  <dcterms:modified xsi:type="dcterms:W3CDTF">2008-04-28T14:22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